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E5E524-34C1-454E-AB06-1F53A5F14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DAA6A0-A9C0-4DA4-AB0B-35414ECD9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685B3C-C6F6-4968-9C5E-70F29A362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AA3CF7-8914-4DB6-A6DF-90DDF3CB7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77BA9-5859-434B-9D1B-A5C3E821D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F3C7F-B114-4A52-A5E9-5A92A461A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4C82A-D5DF-4029-B847-27D080CE0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7F83D-9DC5-4561-8EA4-20818539E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8A3AE-7DF7-4D6A-8791-3AB7B1C81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901C4-C274-498D-93CB-F2D206944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B5D22-5D24-4E7A-9A7E-A57213CEA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3D6256-8D63-47BE-A7CC-022BCDAC6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384A9-4938-4E46-8078-41E9C9C5F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8A8C7-3F5E-440D-BEC3-40436170D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649F5-BC4F-4864-96E2-BF4C580EB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D69C4-EDEA-46E8-B397-CAF173131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9905C-3363-4789-97CC-8306F995A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12F54D-34EC-42BB-A07D-52D82F4CC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FA3C48-7532-4D49-874A-ECA32140F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C68BA0-7642-48D1-99C6-AA125D3F6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2B56E0-A1CB-4068-9E81-B88EA6E86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B553B9-8046-4F3B-B4D2-43E63396E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11A4D1-766C-4E16-AAF6-7B1F62DF0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374B0A-A786-423D-8314-B7D17CCCD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11FD6-15AB-42C7-BCE2-607C55F397A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7" name="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7683D-F3EC-4518-98DA-ACB9C184BA2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63" name="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Data Stewardship &amp; Preservation Cluster Identifier Testbed Activities, Briefly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2971440" y="4267080"/>
            <a:ext cx="57913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A Report for the ESIP Winter 2012 Meeting in Washington DC by Nancy Hoebelheinrich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Synopsis of Project 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ask:  explore &amp; document the operational &amp; implementation issues resulting from assignment of citable Identifiers to data content resources at both the data set and granule / component level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wo data sets used:  1 photographic images, 1 MODIS time series dat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 far, IDs assigned for 2.5 of the 9 ID schemes evaluated in DS&amp;P cluster paper published in 2010 (DOI, ARK, PURL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Issues noted to date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IDs need to be known, else they don’t identify (link to splash page, added to MD, etc.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When should IDs as locators be assigned to the granule / component level? (anticipated citability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Maintenance issues, e.g.,  changes in descriptive MD that could result in changed citation, e.g. whose responsibility to make changes?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Important to evaluate services associated with each ID scheme (resolution services, MD changes, making MD available to indexing services), e.g., EZID &amp; purl.or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4T12:40:43Z</dcterms:created>
  <dc:creator>Stanford University Libraries</dc:creator>
  <dc:description/>
  <dc:language>en-US</dc:language>
  <cp:lastModifiedBy>Stanford University Libraries</cp:lastModifiedBy>
  <dcterms:modified xsi:type="dcterms:W3CDTF">2012-01-06T02:47:35Z</dcterms:modified>
  <cp:revision>10</cp:revision>
  <dc:subject/>
  <dc:title>Data Stewardship &amp; Preservation Cluster Identifier Testbed Activities </dc:title>
</cp:coreProperties>
</file>